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94E3-6F8C-42EE-B518-214540E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3A1-F0A9-46E4-813B-150AB10C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808D-F8F7-4999-8009-7A0C046F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6611-3641-40F4-9E1A-4045AE6A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CE84-6EE1-4147-8BE6-93424B5E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15B7-FE51-4AC2-AD89-BBC65607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452D-0AC2-404E-A2EB-123D6BCC1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6B77-6274-4525-9723-BC2DD4BA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9D3-26CA-486B-B0C1-6AFD6EF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5448-0E8D-48F1-8F2B-3D0CA3D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6BD3-05AB-4F70-8950-57628ECF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E10-0704-4974-B385-44CC8DB9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0BCD-B133-41AA-8C86-4EB307C8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B24A-6525-4886-96CA-5997F3F5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FB0A-6393-424C-A5A8-EBC9A98D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EC9-24AF-4D59-A41E-EAA921D3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E7126-51DE-4FFF-8120-5E347E11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DC6-0513-4A5F-A153-764C8634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B635-2F5C-46A1-BCC6-965FB52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9C0-629D-4996-91D4-1E1CC9AA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B66D-4FD6-4E4D-AF2E-1485318F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B1D-4B2A-4666-A01E-3109B64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577-0883-4A5C-8247-6DF8C94B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81F-B4FA-410F-949B-39CC122B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321F-CF65-4D82-824B-525B314FD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FCA2-124D-406D-87E5-3DDE17309F7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335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3027240" y="-152280"/>
            <a:ext cx="6066000" cy="708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11160" y="4267080"/>
            <a:ext cx="50292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The Declaration of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ercive/Intolerable 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Coercive/Intolerable Acts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losed the port of Bost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away trial by jur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soldiers to enter homes without warra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de public assembly illega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owed for the quartering of soldier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uspended 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ook local control away from the legislative assemb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irst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 fight the Intolerable Acts representatives from 12 of the colonies met together in 1774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ecided to send a letter to King George III demanding rights be restored (and threatening to boycott again)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letter was ignored by King George III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 important agreement that was made by the delegates was that an attack by England upon one of the colonies would be viewed as an attack on each of the colonie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s is the beginning of a unified American fron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so, the delegates decided to meet again if things didn’t get better in a year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-381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econd Continental Congres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2280" y="272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King refused to give in. Later that year colonial militias and British soldiers shot at each other in the towns of Lexington and Conco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May 1775, delegates assembled in Philadelphia for a Second Continental Congres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wanted Independence while others wanted to reconcile with Englan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327636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a year a committee was formed to write a formal declaration of American independe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Jefferson was the main writer (Took many ideas from English Philosopher </a:t>
            </a:r>
            <a:r>
              <a:rPr b="0" lang="en-US" sz="2800" spc="-1" strike="noStrike">
                <a:solidFill>
                  <a:srgbClr val="0070c0"/>
                </a:solidFill>
                <a:latin typeface="Arial Black"/>
              </a:rPr>
              <a:t>John Locke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lled for a new form of government, equal rights and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listed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2800" spc="-1" strike="noStrike">
                <a:solidFill>
                  <a:srgbClr val="92d050"/>
                </a:solidFill>
                <a:latin typeface="Arial Black"/>
              </a:rPr>
              <a:t>grievanc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gainst the k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Declaration of Independ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efferson believed that because of a </a:t>
            </a:r>
            <a:r>
              <a:rPr b="0" lang="en-US" sz="2800" spc="-1" strike="noStrike">
                <a:solidFill>
                  <a:srgbClr val="00b0f0"/>
                </a:solidFill>
                <a:latin typeface="Arial Black"/>
              </a:rPr>
              <a:t>“long train of abuses”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the British government no longer had authority over the coloni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81200" y="0"/>
            <a:ext cx="5786280" cy="686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n </a:t>
            </a:r>
            <a:r>
              <a:rPr b="0" lang="en-US" sz="4400" spc="-1" strike="noStrike">
                <a:solidFill>
                  <a:srgbClr val="92d050"/>
                </a:solidFill>
                <a:latin typeface="Arial Black"/>
              </a:rPr>
              <a:t>July 4th 1776 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legates voted to approve the wording of the Declaration of Independence and pledged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“their lives, their fortunes and their sacred honor”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9-02T11:26:25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